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E74A-BAA6-42E7-8A70-225D4B18E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EE80-A315-488B-8649-ADE1C3F24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7E03-D4D7-427A-8D70-AC7776DA3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B804-567A-4975-A46B-9F3D0B879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19B3-76FB-4362-9ECE-75FDA936B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34D3-2B0D-4400-B89E-875E5F1F7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4691-0BBE-4047-8B63-FC8040C92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D354-08A9-480D-A720-B3D96F8B2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407B-B4B3-4F2A-8872-FAF581B99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A24A-F321-407D-BD1B-77F9A4A0E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687F-5F85-4081-BC33-D5C7491D2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B697-9F09-4323-8B88-9D8D928FD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926A1-9A98-43C2-9C75-BFD93E696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4247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sign tools for representing website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sign elements that influence the presentation of on-screen information product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sting &amp;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valua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ck-up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yout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y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te 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ventions, Formats &amp; Design elements influencing on-screen produ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ing of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reen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x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 scro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stent navi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ld, italics &amp; underl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thumbn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type, a model or simulation of a website demonstrating its functionality, partial navigation options &amp;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idation, manual/electro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 a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of the mes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333360"/>
            <a:ext cx="691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: techniques &amp; procedures for websi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taken 6 months afte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taken not by web desig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hit coun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tion and anecdotal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edback from sample of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9640" y="333360"/>
            <a:ext cx="691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aluation of effectiveness of website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6T03:45:16Z</dcterms:created>
  <dc:creator>T01421606</dc:creator>
  <dc:description/>
  <dc:language>en-US</dc:language>
  <cp:lastModifiedBy>Kelvin Baird</cp:lastModifiedBy>
  <dcterms:modified xsi:type="dcterms:W3CDTF">2007-04-09T22:29:33Z</dcterms:modified>
  <cp:revision>6</cp:revision>
  <dc:subject/>
  <dc:title>Components of Computer System:  </dc:title>
</cp:coreProperties>
</file>